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F3503-0D62-49B5-AC8E-AD993E0E7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8864F-DD02-4AEA-81FD-46440142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03876-0701-4CC1-995D-DE68F7634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F36AE-B1A1-491F-88D3-60638DC00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E93D-7C1A-449C-914C-47821B538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7B93-41DF-432A-BEDC-34D97FB7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476D-7F59-4432-9920-9555E0A1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DAA94-9DF3-4B7E-AB44-9B11213F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C516-B866-401C-BE6F-34ADB237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3E78-17C8-400E-AE69-49895762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7D0E-582B-4A2F-A486-29E68D9D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76F0C-9CF2-4D7B-8B08-9B3C566A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C6A5-9CC5-40C5-A78C-01229A6F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6EA06-0D6B-498A-8E3C-D27645C9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291D-B3FF-49F7-80FC-E609ED19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A7230-C645-4D52-BAB8-1A8DF6415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BB58-E1DF-4979-98F3-68F9E834B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B7001-CB5D-4498-818B-83C9BADF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C4566-198A-43A7-A61B-75F95038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3C3DD-2223-4A32-985C-C8F66618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921F1-137E-4247-9989-B77A0EA8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71FF4-5519-492F-A36A-F4CE8AF2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63096-1874-47D0-8F35-1FF30217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1C418-1CCD-454F-907D-C383CE19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72F8-3903-4166-8F8F-FB5D635574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2394-211F-4F59-9ED6-E03A178143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kill: Cause and Effect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onship between two things when one thing is a stimulus that makes something else happ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ed Fold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™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wo-tab Foldable™ using notebook paper or photocopy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mburger f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t dog fold (leave holes showing for notebook stor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-tab Foldable™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use – Effect – Pre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use – Immediate Effect -- Out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629400" y="4807080"/>
            <a:ext cx="2181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 &amp;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105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Foldab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pocket Fold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note c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Skil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and Cont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3406680" cy="36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of four research-based models for teaching vocabulary (wide reading, explicit teaching of specific words, teaching of word-learning strategies, and development of word consciousness) can be well supported by interactive graphic organizers.  Marzano’s vision for direct vocabulary instruction aims for a top-level linguistic understanding of words accompanied by visual representation of terms, terms that students encounter in their academic re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umann, F.F. and Kame’enui, E.J. (2004)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ocabulary Instruction: Research to Pract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NY: The Guilford 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553080" y="380880"/>
            <a:ext cx="166392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ed Fold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tab Fold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10-tab Fold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ing notebook paper or photocopy pa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 dog fold/leave holes showing for notebook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notebook rings to collect multiple vocabulary Foldab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cabulary Foldab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ed within larger Fold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562720" y="685800"/>
            <a:ext cx="220968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10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e Fold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-pocket Fold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ing 8.5” x 11” photocopy paper and note cards: “Know”/ “Need to Know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-pocket Fold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ing 11” x 17” paper and note c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943600" y="2666880"/>
            <a:ext cx="2666880" cy="19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Foldab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tence strip Fold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using half sheets of notebook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Skil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ing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638680" y="609480"/>
            <a:ext cx="2743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14:08:14Z</dcterms:created>
  <dc:creator>wheatond</dc:creator>
  <dc:description/>
  <dc:language>en-US</dc:language>
  <cp:lastModifiedBy>wheatond</cp:lastModifiedBy>
  <dcterms:modified xsi:type="dcterms:W3CDTF">2007-10-02T14:11:13Z</dcterms:modified>
  <cp:revision>1</cp:revision>
  <dc:subject/>
  <dc:title>Skill: Cause and Effect The relationship between two things when one thing is a stimulus that makes something else happen.</dc:title>
</cp:coreProperties>
</file>